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1.wmf" ContentType="image/x-wmf"/>
  <Override PartName="/ppt/media/image17.jpeg" ContentType="image/jpeg"/>
  <Override PartName="/ppt/media/image3.gif" ContentType="image/gif"/>
  <Override PartName="/ppt/media/image28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202-DB11-4F15-A56F-8798C474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DF5-67AB-49FA-BBB2-86316EB7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A19-833A-4512-839B-8392148E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0F6-441B-4C7A-8EF7-98BA031B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BC4-B2B0-4006-9073-B4966E3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BC9-8C20-44E5-B2AB-4FD35272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926-87FD-4FE8-98B6-7AAD38F8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E21-1679-4B62-B55F-6F88F194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1F2-C41B-4DC1-88F9-6A83942A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AEF-920B-4FCE-B253-6E3EE62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1FE-6E5F-4D27-9892-38793F3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582-43A4-426B-B825-8BF6E89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51F2-E93B-4055-8DA9-B438B3603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ora.com/" TargetMode="External"/><Relationship Id="rId2" Type="http://schemas.openxmlformats.org/officeDocument/2006/relationships/hyperlink" Target="http://www.disneychannel.com/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musicfanclubs.org/tonibraxton/04.jpg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I’m Good 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Singin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an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oing ha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057400" y="1676520"/>
            <a:ext cx="4876920" cy="1218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French Script MT"/>
              </a:rPr>
              <a:t>Ashley Nix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French Script MT"/>
              <a:ea typeface="French Script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4648320"/>
            <a:ext cx="18954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1901880" cy="199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Dream Beauty Shop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French Script MT"/>
              </a:rPr>
              <a:t>My favorite websites include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French Script MT"/>
                <a:hlinkClick r:id="rId1"/>
              </a:rPr>
              <a:t>www.pandora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French Script MT"/>
                <a:hlinkClick r:id="rId2"/>
              </a:rPr>
              <a:t>www.disneychannel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180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French Script MT"/>
              </a:rPr>
              <a:t>www.myspace.co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353360" y="5257800"/>
            <a:ext cx="1790640" cy="1600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y favorites foods</a:t>
            </a:r>
            <a:r>
              <a:rPr b="1" lang="en-US" sz="4000" spc="-1" strike="noStrike">
                <a:solidFill>
                  <a:srgbClr val="008000"/>
                </a:solidFill>
                <a:latin typeface="French Script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ni’s Pizz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Sausages with beans and r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And Frito p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425600" cy="1901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666880" y="5638680"/>
            <a:ext cx="1676520" cy="1036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572000" y="51814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7238880" y="51814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favorite teachers a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Web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You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rs. J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477120" y="4952880"/>
            <a:ext cx="1981080" cy="1181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5029200"/>
            <a:ext cx="20066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If I could I w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Make the world a better plac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Get rid of all T.A.K.S. test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149960" y="5257800"/>
            <a:ext cx="1994040" cy="1200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20984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In Ten Years 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I hope to own my own beauty sho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 live in a big ho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Do the biggest celebrity hai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202440" y="152280"/>
            <a:ext cx="294156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My favorite artist/ athl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Beyonce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oni Braxt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Paul Pier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1650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French Script MT"/>
              </a:rPr>
              <a:t>Tevin Camp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19432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" descr="Toni Braxt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286000"/>
            <a:ext cx="1905120" cy="1752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172200" y="3657600"/>
            <a:ext cx="1819440" cy="1752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 Tevin Campbell"/>
          <p:cNvPicPr/>
          <p:nvPr/>
        </p:nvPicPr>
        <p:blipFill>
          <a:blip r:embed="rId5"/>
          <a:stretch/>
        </p:blipFill>
        <p:spPr>
          <a:xfrm>
            <a:off x="0" y="434340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French Script MT"/>
              </a:rPr>
              <a:t>The end of my sh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These are the things you need to know abou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m a Tw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’m 4’’9’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go to Oze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take dance 2, I love to da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French Script MT"/>
              </a:rPr>
              <a:t>I live with a family of six(3 sisters and 1 brother) and my mothe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0000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French Script MT"/>
              </a:rPr>
              <a:t>Production by: Ashley Nixon My Dreams Designs, Hopes, and Dreams: What I would like to do as Cosmetologist. What ever it takes I will learn how to do these designs and hairstyl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487692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057400" y="4952880"/>
            <a:ext cx="160020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905120" cy="1981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beautiful hairstyle"/>
          <p:cNvPicPr/>
          <p:nvPr/>
        </p:nvPicPr>
        <p:blipFill>
          <a:blip r:embed="rId5"/>
          <a:stretch/>
        </p:blipFill>
        <p:spPr>
          <a:xfrm>
            <a:off x="7467480" y="4952880"/>
            <a:ext cx="167652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Nail Art Manicure Picture"/>
          <p:cNvPicPr/>
          <p:nvPr/>
        </p:nvPicPr>
        <p:blipFill>
          <a:blip r:embed="rId6"/>
          <a:stretch/>
        </p:blipFill>
        <p:spPr>
          <a:xfrm>
            <a:off x="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Nail Art Manicure Picture"/>
          <p:cNvPicPr/>
          <p:nvPr/>
        </p:nvPicPr>
        <p:blipFill>
          <a:blip r:embed="rId7"/>
          <a:stretch/>
        </p:blipFill>
        <p:spPr>
          <a:xfrm>
            <a:off x="2286000" y="2971800"/>
            <a:ext cx="228600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4572000" y="2971800"/>
            <a:ext cx="2235240" cy="193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6858000" y="28954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94600" y="1752480"/>
            <a:ext cx="1949400" cy="11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0:14Z</dcterms:created>
  <dc:creator>768984</dc:creator>
  <dc:description/>
  <dc:language>en-US</dc:language>
  <cp:lastModifiedBy>768984</cp:lastModifiedBy>
  <dcterms:modified xsi:type="dcterms:W3CDTF">2008-10-27T15:45:55Z</dcterms:modified>
  <cp:revision>10</cp:revision>
  <dc:subject/>
  <dc:title>Ashley Nixon</dc:title>
</cp:coreProperties>
</file>